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C2D8-8F2F-4041-8247-A85F4D0E5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ECB2-10ED-4457-8A36-36980F558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8B55-6E3B-47DB-B148-3808814A5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5AA6-45FE-4B5F-BF96-794FCF8C7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B273-151A-4C0E-A8FA-270AAD868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2248-0528-4D68-8BF3-FD0108209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E971-18A9-4947-BB60-BFD750375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0B31-4547-4EE6-A653-040D89CB2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2093-1783-4830-B9A7-F566E1860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97159-D359-42D4-BF2F-AAC903366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F3F5-1C41-4BBA-8948-08D3775820E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3DB4C-EAEA-40CD-90B5-320177E2E88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BB5AF-33FE-44C1-8974-5878104B128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5C0B9-C969-4262-B47C-FFEF7F4087B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0D6FA-54E7-4DE8-8069-9273DD17EE0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31265-1E32-4DA5-A2CB-68586CCCA58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1FC6C-6F5B-4D77-ABAE-224837BF350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88F24-62CA-468F-ABB2-F7FCF1B4CE1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E4142-3783-412D-97E8-7A2DFE8D5F2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2072B-BBCC-48AA-A6AF-A97FB50350C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F63669-5CC7-466D-A763-99C217C8F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51564-CB04-4E70-9B6B-DAEB64AB512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5F6F8E-6BBE-450C-8C06-4896B1C1B39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F14BF4-7EFC-4F8A-B66C-5666C78AD09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59BF34-07F2-4C8B-AF8C-14AEE56B5F0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57F96-06DB-4077-B8EA-EA3FD5472BA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D45816-3209-4971-B8AE-004A3EFCA46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13C808-8D72-47EF-979F-73A39AE63AA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CD87AC-9103-4E33-8BC1-FA5820B4A7D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A5F5B3-415E-4200-83A5-FC737378755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CD9EE-E7FD-49CF-8C7F-81218DE6F0F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69530C-537A-4FA3-9318-5D6E24D0B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A2C51-5BB8-4F53-B758-F70A00C7D99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F00FB6-8858-49E6-9E9A-E19DE6F7767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35457C-2F4D-43C7-8D54-61E1E79688E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7EF550-92B1-4760-8093-261A8034BF4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740F44-5E39-47B5-85EF-2C06D014B07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C348DD-3CDC-4BC5-BD8D-C90BE20E5AE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8EA8FF-F763-4BD2-9363-F30589CD481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35B527-BA51-4F38-9275-786D386717B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F7A01E-5237-4AA1-A9E9-625206C1857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DB376D-3E2E-4B54-AF3F-7439C453D2B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F2540D-0599-4B2B-B74F-BFC68137E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055D9-581C-4A63-AED0-B4E4E91ABE2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37571E-E572-4A2E-95D5-3D70B02C991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ECD721-A60E-4233-A4FF-D27BDEAD3A8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3A9974-1A0E-429A-A9BF-98E5AEC3138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0B621-05B1-413F-AF22-E4E8BE41EC9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21794-A893-42CA-BE60-AB34449B36C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76797-8FB3-46FF-AE93-12668AF8387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B204E-DE25-485D-9817-C5690859F05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15929-F2CC-4889-BE54-6C1810FE762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C5A4D-667D-4DFF-BF97-301305812BD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7EB74-0642-45BA-B96C-299A43C2D1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B9695-C3F0-419C-A309-2958FD2F857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F94FE-FECE-42FE-997F-9C829589C02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625DE-882D-45D4-ACE5-21324639266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2408A-F8E6-460C-BB97-30C5709DFAE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D19B6-DA5A-454C-9A98-3F6080FAC19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53846-2D3B-411C-AF28-FB1FB27A35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6FC5C-DA6A-4323-82B5-4181E37E71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6DF83-1859-4E59-A9A2-4E7A7B4D82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B86D4-D942-4D17-A308-9FA2B208B2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07398-6116-49E5-A00C-8DFD4758F6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1309B-EE1E-4D54-8EBF-9655A60C81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4B741-2CB9-4306-A162-FD5446621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7EF3A-3BDE-4F9E-8AF1-B0D4732BF5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810DC-F96D-4D78-9D9D-B89E1C16EB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48BEB-40ED-44BF-A886-882E1221EA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979AD-1C56-4C36-A7BF-1A56068A93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41C8B-F0EF-4DF0-A666-68BD53A93E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2846-CF9C-499F-A1C8-061D8C75DA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04BE-AAE5-4351-8C80-3CF3CDB64F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150C-BC72-48F0-9F5F-576F0FA6CC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3871-0097-4EBE-A3D8-01197AFB0A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8E49-E9E8-4F88-BB14-0EB245349C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3416-338F-4D9E-ACC1-8EE1497E69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5AEC-66D0-4ACF-8EF8-C7423DD036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F99A-0467-48C9-9844-167A70DACF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2245-B80C-41E0-A8E9-5A8EBE1D00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1F88-387F-442E-901E-05CFFD8319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13CA-CA1D-4E11-A017-92FE7B2D24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66F2-B74B-411C-9CB8-24AF9B3891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6574-2809-4436-9F1B-4F02C44085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6DE0F-B176-4EBA-85EA-D142411043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1DD1F-F40C-4307-A580-7319D21E5D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53E43-2CA6-4AC3-8DC5-D90E395C5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DD43A-B46B-44F3-A539-71C959BE29F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52370-6F91-4898-9C1C-FF9FF254C8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C4801-DFD8-4556-B4E7-9763D8BA57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0BD53-10CA-4974-ADA6-96A4602EB8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5D8BF-789E-4701-BB25-2A305779B2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342E8-F85E-42A9-8ABC-CBC9020E03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1BE3C-EA69-4D0E-A423-BEF4F87021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1239C-B613-4C06-9B71-2BE75DED95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12EEA-AB55-423D-9271-9047F339D8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BE6C0-E449-4F29-A7C2-FC72AC9B5A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7BE6DF-8586-4A2E-B4FC-BEB85C5CB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D93AF-1B5D-4D83-BBEB-518C9F2CC94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B0ED6F-CDF3-4B99-8705-15019A2AEB0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54C82A-CBFA-4FF8-8AD2-A26B5DAF0B7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92E925-A8A0-46C2-A80C-D6404FF50A8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DB8B88-C9B6-4B69-91F5-1DF009592EF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F43635-966B-4F16-B381-478C9ABA2DB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092F63-021A-491B-9ABA-11314D075B1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42CE6E-B226-466D-8DE1-2A9D7456F7E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36F7DB-E006-42E7-8D22-F4EAE6149BF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206629-DBD4-496B-B154-889625DE350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E2B752-78CA-4D50-AE7F-3CE638DB2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5E994-2745-40ED-A55F-5FB16A73696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74B19E-2F2C-4B64-AE4D-EB4D4622BD8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6A53F-6E41-4B5E-8541-DDBCEEE24E9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413B4-0AEB-4A39-978E-23C24EB1232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C4BC2-D1F4-451E-B1A0-987FD41640D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9823D-B8F6-4C5C-BDEC-7D171C9E17C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6E08A-91CD-46F5-A735-9F8A03C57C5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F9342-D3B1-4296-AD84-65531276D12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AFFE1-6B4D-4DC8-8E39-75AB1C3D1D5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000F7-D937-4262-8EEF-84FB29C6821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4AFA1-18ED-40EE-8D4A-300AC541D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10B3-7B0C-47AD-B327-EB5339DD88B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6A4C8-C83F-4AD3-9C51-D03F1A7EA27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989F6-900C-4E1A-925A-01297DA5120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3FDE3-0997-4CF7-A5B0-632F58D2895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7F8545-00E3-4C8C-8AD8-48ED828FDA5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08468-696B-410B-9B31-496D0B4A5E9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E31B0F-1E01-422B-93F9-98D3FC4CA5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9831D0-172C-4218-82EC-76E9BE6FCA3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E597C0-72DC-4C4A-AB1E-BE88D99698B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14C908-A801-4FF2-89D2-A8516E50C16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B62E43-000B-468F-BB1A-2C7EDF282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C4EA0-5CA3-4AD5-A8E8-CF3D73233B8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115FA6-46CF-4DF4-8DE4-A4F79E15EAE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43965-72D7-498E-B125-A2A8601E2CF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CDE7F-899F-4E95-8012-0530292B2F9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E7B3D-8D38-4487-AF73-53FA5731356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3C8C44-87AB-410B-AFDC-2997537BDC6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B8DC71-E3C8-42A6-AA7E-245EB01A10F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CD4771-05C7-4253-A1CD-444844BACEB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F0497C-565B-4017-AAF8-A53AE34F18E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0465A6-9D09-4D28-A8A2-8B03B846BD3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D8094D-4781-48F8-90F5-557E5B780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406B9-60C4-4459-9D05-DB839596F14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3595EE-1D29-49EF-8B60-6285442DEDF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D8ED87-BA09-4F55-B442-F38D439B6CE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A66916-29F6-4F28-BD43-AC19688223F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8FB65F-1EE6-4B48-ADCE-5B6D91584A1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7C3B78-AD2E-4334-B726-4B3A63E0222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294580-5BB2-4A0B-827C-DB4C99B84FA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E5A20D-91E9-4438-A7A0-5ADD2F6FC28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C3E4F-04C4-456C-B42B-643B9311087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23F5F-386B-4A0F-9C39-451DD928FA0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90116-147B-4DFA-B624-9D1778198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6401D3BB-6092-4299-B3C7-FC47C1761C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ftr" idx="1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0D10969D-E585-481C-ABA1-DD6AF22E73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ftr" idx="2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2FC4CB97-D297-42FA-A186-3E2C881A60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ftr" idx="2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DA2BE8D3-569F-4157-921F-C85308F428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74FA8C26-05D8-4D8A-94E1-92AA9E3F60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F473E9F9-0AAA-4204-A048-89402A1EA3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B1B4AE3D-F3BF-4D1B-8DD1-11A7C8C70C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55872CD8-9430-4F80-A75F-157B3F8C08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818E8196-D515-4A9B-AFB7-1CB4515529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ftr" idx="1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AF04496E-6CDA-426B-9409-CF04EA1C6B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84FD6B23-CA73-4A52-B497-450F60AEE8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FABCEECE-2DC4-4D8B-82C0-DEB4329C4D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4-</a:t>
            </a:r>
            <a:fld id="{F330A607-F7D6-44C7-AC6E-E072B436FF8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682200" y="1622520"/>
            <a:ext cx="783900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both English and Spanish, the verb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numbers are used to tell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3" descr="anteTodo"/>
          <p:cNvPicPr/>
          <p:nvPr/>
        </p:nvPicPr>
        <p:blipFill>
          <a:blip r:embed="rId1"/>
          <a:stretch/>
        </p:blipFill>
        <p:spPr>
          <a:xfrm>
            <a:off x="736560" y="1581120"/>
            <a:ext cx="167652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4-</a:t>
            </a:r>
            <a:fld id="{54F36DA7-24B7-411C-8819-B79FE49B4E2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9" descr="c01l04_p024_01"/>
          <p:cNvPicPr/>
          <p:nvPr/>
        </p:nvPicPr>
        <p:blipFill>
          <a:blip r:embed="rId1"/>
          <a:stretch/>
        </p:blipFill>
        <p:spPr>
          <a:xfrm>
            <a:off x="457200" y="3317760"/>
            <a:ext cx="8229600" cy="24987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k what time it is,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Qué hora e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telling time,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ll other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4-</a:t>
            </a:r>
            <a:fld id="{8942CDBC-01E6-40DD-8262-3E942694AAB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n English, you express time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ur to the half-hour in Spanish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minu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4" descr="c01l04_p024_02"/>
          <p:cNvPicPr/>
          <p:nvPr/>
        </p:nvPicPr>
        <p:blipFill>
          <a:blip r:embed="rId1"/>
          <a:stretch/>
        </p:blipFill>
        <p:spPr>
          <a:xfrm>
            <a:off x="1162080" y="3218040"/>
            <a:ext cx="676440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4-</a:t>
            </a:r>
            <a:fld id="{9E9FFF14-9DE4-4535-9C63-813F17624F9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6" descr="c01l04_p024_03"/>
          <p:cNvPicPr/>
          <p:nvPr/>
        </p:nvPicPr>
        <p:blipFill>
          <a:blip r:embed="rId1"/>
          <a:stretch/>
        </p:blipFill>
        <p:spPr>
          <a:xfrm>
            <a:off x="457200" y="3290760"/>
            <a:ext cx="8229600" cy="293220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9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use eith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cuar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qui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press fifteen minutes or quarter past the hour. For thirty minutes or half past the hour, you may use eith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med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trein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4-</a:t>
            </a:r>
            <a:fld id="{D50432B3-6AE6-46C5-A6A2-4EF4E357C47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express time from the half-hour to the hour in Spanish by subtracting minutes or a portion of an hour from the next ho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5" descr="c01l04_p024_04"/>
          <p:cNvPicPr/>
          <p:nvPr/>
        </p:nvPicPr>
        <p:blipFill>
          <a:blip r:embed="rId1"/>
          <a:stretch/>
        </p:blipFill>
        <p:spPr>
          <a:xfrm>
            <a:off x="457200" y="3311640"/>
            <a:ext cx="82296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4-</a:t>
            </a:r>
            <a:fld id="{5A91EB9B-1A02-44AF-9885-9C475A9ABB6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k at what time a particular event takes place, use the phra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A qué hora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tate at what time something takes place, use the construc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a(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c01l04_p025_01"/>
          <p:cNvPicPr/>
          <p:nvPr/>
        </p:nvPicPr>
        <p:blipFill>
          <a:blip r:embed="rId1"/>
          <a:stretch/>
        </p:blipFill>
        <p:spPr>
          <a:xfrm>
            <a:off x="457200" y="3738600"/>
            <a:ext cx="822960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4-</a:t>
            </a:r>
            <a:fld id="{D4D040B5-18B6-4514-909C-08718A892E4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some useful words and phrases associated with tell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c01l04_p025_02"/>
          <p:cNvPicPr/>
          <p:nvPr/>
        </p:nvPicPr>
        <p:blipFill>
          <a:blip r:embed="rId1"/>
          <a:stretch/>
        </p:blipFill>
        <p:spPr>
          <a:xfrm>
            <a:off x="1998720" y="2617920"/>
            <a:ext cx="5146560" cy="14889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c01l04_p025_03"/>
          <p:cNvPicPr/>
          <p:nvPr/>
        </p:nvPicPr>
        <p:blipFill>
          <a:blip r:embed="rId2"/>
          <a:stretch/>
        </p:blipFill>
        <p:spPr>
          <a:xfrm>
            <a:off x="1460520" y="3989520"/>
            <a:ext cx="66326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4-</a:t>
            </a:r>
            <a:fld id="{BEAB5CB2-57BE-42D4-8F2F-41EEAF7EF5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1" descr="intentalo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673200" y="2077920"/>
          <a:ext cx="7877160" cy="4162680"/>
        </p:xfrm>
        <a:graphic>
          <a:graphicData uri="http://schemas.openxmlformats.org/drawingml/2006/table">
            <a:tbl>
              <a:tblPr/>
              <a:tblGrid>
                <a:gridCol w="7877160"/>
              </a:tblGrid>
              <a:tr h="1097640">
                <a:tc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 telling time by completing these sentences. The first item has been done for you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</a:tr>
              <a:tr h="307296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:00 a.m.) Es la ___________ de la mañan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:50 a.m.) Son las tres __________ diez de la mañan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:15 p.m.) Son las cuatro y __________ de la tard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:30 p.m.) Son las ocho y __________ de la noch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:15 a.m.) Son las nueve y quince de la __________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:00 p.m.) Es el __________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:00 a.m.) Son las seis de la __________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521" name="Text Box 20"/>
          <p:cNvSpPr/>
          <p:nvPr/>
        </p:nvSpPr>
        <p:spPr>
          <a:xfrm>
            <a:off x="3687840" y="3352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ff"/>
                </a:solidFill>
                <a:latin typeface="Comic Sans MS"/>
              </a:rPr>
              <a:t>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4-</a:t>
            </a:r>
            <a:fld id="{B3D13226-0910-484C-8F41-A61107BAB6A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intentalo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5" name=""/>
          <p:cNvGraphicFramePr/>
          <p:nvPr/>
        </p:nvGraphicFramePr>
        <p:xfrm>
          <a:off x="630360" y="2136600"/>
          <a:ext cx="7877160" cy="4145040"/>
        </p:xfrm>
        <a:graphic>
          <a:graphicData uri="http://schemas.openxmlformats.org/drawingml/2006/table">
            <a:tbl>
              <a:tblPr/>
              <a:tblGrid>
                <a:gridCol w="7877160"/>
              </a:tblGrid>
              <a:tr h="1097640">
                <a:tc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 telling time by completing these sentences. (cont'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</a:tr>
              <a:tr h="307296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:05 p.m.) Son las cuatro y cinco de la __________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:00 a.m.) Es la __________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:45 a.m.) Son las cuatro menos __________ de la mañan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:15 a.m.) Son las __________ y cuarto de la mañan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:25 p.m.) Es la una y __________ de la tard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:50 a.m.) Son las __________ menos diez de la mañan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:40 p.m.) Son las once menos veinte de la __________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Jose</cp:lastModifiedBy>
  <dcterms:modified xsi:type="dcterms:W3CDTF">2013-08-18T01:21:58Z</dcterms:modified>
  <cp:revision>63</cp:revision>
  <dc:subject/>
  <dc:title>PowerPoint Presentation</dc:title>
</cp:coreProperties>
</file>